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7.jpeg" ContentType="image/jpeg"/>
  <Override PartName="/ppt/media/chimes.wav" ContentType="audio/x-wav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3F1-854B-4C3D-BDEA-0DD9042E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477-1248-4B81-AD4D-5A473FC3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D67-C8D2-498C-9913-13FE6791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EF4-7060-486D-A469-B050E1E0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065D-C319-41F5-B3B2-D58078F5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D405-4CB1-4163-8FBA-5FA18E8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EBE3-D698-4826-B0C8-CE11AE8B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BA35-9985-4592-9679-3B2E2F06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EED7-5063-45A9-91B7-7A0E9D2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5955-CCC3-443C-9455-685ABD1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9CD1-3C32-47BC-9212-E531EDD9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659-17C6-4436-A773-6F2CBB39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BB7B-94C4-47BE-B128-66FA71A9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3B82-2A94-48CB-BF7E-A6B0C27F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8B59-EC9F-430F-A2E9-14541340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7A85-7103-4A22-A1B8-07169EF0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84B8-4DB2-463B-8A33-DA36C3DB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BE54-BC99-466F-964A-02B5669C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23E4-3B18-4250-86D4-534E02DC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0007-CA6A-4F89-B2CB-4A8EB64D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A815-3577-42C3-9B08-B88C12B7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C67B-F284-405A-9A1C-EF25C79D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034-A333-4009-BB77-DC21864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D3BE-293D-4546-9C3F-0EA227EC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B31D-C3EA-441F-969E-31E8716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1EA2-EFDE-4AFD-8B5E-758BF67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E5A7-64E5-48E4-BA70-8D1D42C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7E22-1760-4C40-B9DD-D46D67D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EE4C-3F36-44EB-8162-F9403BFE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A6BA-8CC9-4D55-B12D-464E90B6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36BE-C739-4E7F-B477-8DC31525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FC0E-4B66-457E-B092-1B2BFF13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4637-6A46-4851-BB06-F4DB2FB0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4C6-ADBF-494B-A448-E3BD4BC8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3D0A-B361-4DF3-A546-3BBA4BA9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D592-AB41-4624-A8AF-72D16CEE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A4FE-57F0-46EF-93BD-7F0D610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A665-4EB4-4EB1-A158-BEA1F4C1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4A66-D06B-4D2F-A015-876DDA8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7428-4B62-40DF-8352-46CE2904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ED24-A147-44E2-B70E-AD6652D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B4C0-F5B8-47B4-85AE-0B5D3E59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A478-9B45-468C-AC0C-BBB2270E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5CE-FC49-4FF3-AB3B-2586E8CA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801-4588-4168-8567-8B20B6F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2CF-4FBE-4ED6-8965-4FFEE64E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502-23C3-4168-B783-F7910B14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3D4-7E3E-463B-BB5C-C5B77A13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78DE-A967-4825-99D0-A48587A3DA09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A81-CE9E-4253-A4CD-4B79CB82AA18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BDED-53B2-4060-895F-041337DA7EA6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0E3B-4C07-4D44-91FF-5D075DAD36BC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78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SALES ACIDAS Y SALES HIDRATADA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334800"/>
            <a:ext cx="9144000" cy="581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ormulación y nomenclatura de las sales á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33520" y="1022400"/>
            <a:ext cx="8001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sales ácidas son aquellas cuyos hidrógenos del ácido del que derivan no han sido todos sustituidos por cationes metá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sal ácida está formada por la combinación de un catión metálico con un anión que todavía tiene átomos   de hidrógeno sustitu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formulan escribiendo en primer lugar el catión metálico y después el an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la fórmula deben compensarse las cargas positivas y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denominan con el nombre del anión seguido de la preposición de y, a continuación, el nombre del catión metá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2819520" y="76320"/>
            <a:ext cx="1676160" cy="5205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emp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533520" y="563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Na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429000" y="623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Hidrogenosulfuro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3429000" y="13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Hidrogenosulfito de b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533520" y="1249200"/>
            <a:ext cx="236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a(HS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533520" y="208764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Cu(HSi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429000" y="2071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Hidrogenometasilicato de cobre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429000" y="2909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Dihidrogenodifosfato de potas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609480" y="284940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0" y="4419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609480" y="3687840"/>
            <a:ext cx="27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NaHC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3429000" y="352116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Hidrogenocarbonato de sodio Bicarbonato de 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3505320" y="45100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Hidrogenofosfato de níquel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609480" y="4525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NiHP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609480" y="5288040"/>
            <a:ext cx="23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Ca(HC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3505320" y="53481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Bicarbonato de cal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3505320" y="60339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Dihidrogenoborato de magnes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609480" y="597384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Mg(H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0" y="166680"/>
            <a:ext cx="9144000" cy="5205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rmulación y nomenclatura de las sales hidra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04920" y="80964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rmalmente nos encontramos con que los iones que forman los cristales de las sales están rodeados de moléculas de agua.                   En estos casos se dice que la sal está hidratada, y este hecho lo reflejamos en su fórmula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04920" y="2409840"/>
            <a:ext cx="883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r ejemplo, en el cloruro de cobalto (II) de color escarlata, hidratado, la fórmula es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oCl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 6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nos indica que en un cristal de esta sal por cada dos iones cloruro existe un ión cobalto (II) y seis moléculas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80880" y="4054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denominar estas sales, sólo hay que añadir al nombre de la sal las palabras: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monohidra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dihidra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rihidra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80880" y="4968720"/>
            <a:ext cx="8610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el caso anterior, pues, el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oCl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 6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loruro de cobalto (II) hexahidra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57200" y="603396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uS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 5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2743200" y="6324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38098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ulfato de cobre (II) pentahidra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d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4800600" y="20732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oruro de cobalto (II) hexahidra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105520" y="3367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Cl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6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8" descr="CoCl2"/>
          <p:cNvPicPr/>
          <p:nvPr/>
        </p:nvPicPr>
        <p:blipFill>
          <a:blip r:embed="rId1"/>
          <a:stretch/>
        </p:blipFill>
        <p:spPr>
          <a:xfrm>
            <a:off x="990720" y="1600200"/>
            <a:ext cx="3555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1752480" y="5334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yes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sulfato de calci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dihidra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Yeso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8:48:20Z</dcterms:created>
  <dc:creator>*</dc:creator>
  <dc:description/>
  <dc:language>en-US</dc:language>
  <cp:lastModifiedBy>TE</cp:lastModifiedBy>
  <dcterms:modified xsi:type="dcterms:W3CDTF">2012-05-03T20:57:26Z</dcterms:modified>
  <cp:revision>20</cp:revision>
  <dc:subject/>
  <dc:title>Presentación de PowerPoint</dc:title>
</cp:coreProperties>
</file>